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79E-4E5D-49E0-ADF6-67A56178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165-8B61-42D6-8243-EBC511D0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C33-DB01-4581-B33F-DB8F590C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3294-32AF-49CC-B6C5-0EA89350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AF6-0A30-4F4F-82D1-22A129B5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A02-D353-4724-AE43-C5EDB8E7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EC3-1550-44B6-9569-67BFE736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74B-FC14-4200-A9A1-2851938E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2E4-8C09-4C78-A223-9C50B94C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A68-3BDB-4007-A49D-2E633242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9C8-C404-4598-8407-DD36DB70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5FB-875C-4F3C-8698-11EB4460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9623-06CC-4BCD-8E68-45187D060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07:53:42Z</dcterms:created>
  <dc:creator>Grupo Editorial</dc:creator>
  <dc:description/>
  <dc:language>en-US</dc:language>
  <cp:lastModifiedBy>Grupo Editorial</cp:lastModifiedBy>
  <dcterms:modified xsi:type="dcterms:W3CDTF">2001-10-04T07:57:27Z</dcterms:modified>
  <cp:revision>1</cp:revision>
  <dc:subject/>
  <dc:title>Sin título de diapositiva</dc:title>
</cp:coreProperties>
</file>